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CE0E-2F7F-4F18-A578-D769413A1E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0B71-205F-42A4-8FA5-3124F25987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8D0B-6B38-400F-AE74-1228F083B0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4E0C-D0AD-4594-8E28-22606AC9B8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A521-0CF7-432F-899F-1DA7D8049D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9FD8-2B08-4FAF-B0E4-A533B22B70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4099-3B51-40E4-AC63-7DBD6D54C9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75D4-E576-4E1C-A946-7FDB955A54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BD2C-47B0-468E-A0F0-9F606FAC9F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34D-8957-47BB-8FBE-AA52C55F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8C7-2E7C-40CB-AF7D-25AB3773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12B-238E-4EEA-A329-0496B403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DCB-F93E-4893-ACBE-35EEFF01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3C9-753F-436D-AB3F-007B9B0D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95B-417B-4CB6-BC04-016AC910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AD7-F366-4E2A-83DB-E9F9CF37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0B2-9F7C-47BA-88FC-9125957D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0AA-A33C-4B0A-B8F4-A930C793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A48-43FA-417A-89DF-C7476BD8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E06-1817-4849-A164-DCDDEFF0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49E-AA47-425A-A876-B6219BB9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A845-ADB0-420F-90B7-5EFA447C6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iQs0U_TkBM&amp;feature=related" TargetMode="External"/><Relationship Id="rId2" Type="http://schemas.openxmlformats.org/officeDocument/2006/relationships/hyperlink" Target="http://www.youtube.com/watch?v=Q5Sj5Gw4t1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819520" y="1371600"/>
            <a:ext cx="373356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Culling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514520" y="5257800"/>
            <a:ext cx="57243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oudy Stout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oudy Stout"/>
              </a:rPr>
              <a:t>Kelly Mathiesen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oudy Stout"/>
              <a:ea typeface="Goudy Stout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048120" y="3276720"/>
            <a:ext cx="525780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33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 the AWESOME....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3300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6559E-006 C -0.00035 0.00162 -0.00191 0.00347 -0.00122 0.00486 C -0.00052 0.00601 0.01337 0.00948 0.01475 0.00994 C 0.02795 0.00925 0.04201 0.01272 0.05434 0.00671 C 0.05955 0.00416 0.06423 -1.16558999999983E-006 0.06909 -0.00324 C 0.07083 -0.0044 0.07413 -0.00648 0.07413 -0.00648 C 0.075 -0.00879 0.07552 -0.0111 0.07656 -0.01318 C 0.0776 -0.01573 0.07916 -0.01758 0.08021 -0.01966 C 0.08142 -0.0229 0.08246 -0.03284 0.08281 -0.03469 C 0.08889 -0.06406 0.08472 -0.0377 0.08767 -0.05759 C 0.08871 -0.07354 0.08906 -0.08973 0.09132 -0.10523 C 0.09409 -0.17761 0.08941 -0.25162 0.08767 -0.32424 C 0.08819 -0.41952 0.08524 -0.52428 0.09253 -0.62165 C 0.09392 -0.66374 0.09514 -0.67646 0.09253 -0.7204 C 0.09236 -0.72433 0.09219 -0.72919 0.0901 -0.73173 C 0.08177 -0.74283 0.07639 -0.74353 0.06666 -0.74491 C 0.05885 -0.74607 0.04323 -0.74838 0.04323 -0.74838 C 0.02969 -0.74699 0.0158 -0.74769 0.00243 -0.74329 C -0.03021 -0.73312 -0.0599 -0.716 -0.09011 -0.69727 C -0.14514 -0.66328 -0.19844 -0.62535 -0.25191 -0.58742 C -0.31129 -0.5451 -0.39636 -0.50463 -0.43212 -0.42253 C -0.43768 -0.3883 -0.43559 -0.34736 -0.42101 -0.3173 C -0.41893 -0.3062 -0.41216 -0.29464 -0.40747 -0.28469 C -0.39531 -0.25856 -0.38212 -0.23404 -0.3691 -0.20884 C -0.35729 -0.18594 -0.34427 -0.16466 -0.33091 -0.14316 C -0.29202 -0.08071 -0.25781 -0.0185 -0.19375 -0.00162 C -0.1783 -0.00532 -0.16111 -0.00786 -0.14688 -0.01665 C -0.11094 -0.03839 -0.08056 -0.06776 -0.05052 -0.1006 C -0.0441 -0.10731 -0.0375 -0.11402 -0.03091 -0.12003 C -0.02778 -0.12327 -0.02413 -0.12512 -0.02101 -0.12859 C 0.01406 -0.16559 0.04653 -0.20699 0.07656 -0.25162 C 0.10677 -0.29649 0.12361 -0.35685 0.13698 -0.41281 C 0.14409 -0.50995 0.13819 -0.57169 0.12847 -0.67253 C 0.12465 -0.71184 0.11788 -0.75116 0.10625 -0.7877 C 0.09028 -0.83811 0.08715 -0.87812 0.04201 -0.88645 C -0.03091 -0.8439 -0.08785 -0.74422 -0.13212 -0.66143 C -0.18924 -0.55458 -0.24722 -0.44773 -0.29375 -0.33233 C -0.31597 -0.27683 -0.34879 -0.20791 -0.35677 -0.14662 C -0.36216 -0.10523 -0.35955 -0.12789 -0.36424 -0.07909 C -0.36042 -0.03562 -0.35382 0.03191 -0.32969 0.06406 C -0.2875 0.12026 -0.2316 0.15518 -0.17275 0.16605 C -0.17031 0.16489 -0.16788 0.16397 -0.16545 0.16281 C -0.16302 0.16165 -0.15799 0.15957 -0.15799 0.15957 C -0.14601 0.14893 -0.14341 0.12928 -0.13941 0.11193 C -0.13299 0.08418 -0.12917 0.05042 -0.11597 0.02636 C -0.09375 -0.0148 -0.07795 -0.06175 -0.0592 -0.10523 C -0.05 -0.12697 -0.03854 -0.14686 -0.0283 -0.16767 C -0.00504 -0.21462 0.01632 -0.26434 0.03837 -0.31267 C 0.06371 -0.36725 0.08316 -0.42345 0.1 -0.48358 C 0.10555 -0.50324 0.11076 -0.52313 0.11614 -0.54279 C 0.11701 -0.54602 0.11857 -0.55273 0.11857 -0.55273 C 0.11892 -0.55736 0.11979 -0.56267 0.11979 -0.5673 C 0.11979 -0.59921 0.1184 -0.58534 0.08889 -0.57886 C 0.03333 -0.54556 -0.01962 -0.50486 -0.07031 -0.46045 C -0.10747 -0.42785 -0.1474 -0.40125 -0.18386 -0.36679 C -0.19809 -0.35338 -0.20799 -0.33719 -0.22101 -0.32262 C -0.22466 -0.30712 -0.21788 -0.33349 -0.2283 -0.30759 C -0.23143 -0.29995 -0.23316 -0.28654 -0.23455 -0.27822 C -0.23229 -0.24977 -0.23247 -0.23266 -0.22587 -0.20722 C -0.19584 -0.0902 -0.12413 0.00832 -0.04202 0.06406 C -0.00504 0.08904 0.03281 0.09621 0.0717 0.11193 C 0.07587 0.11147 0.08003 0.1117 0.08403 0.11031 C 0.08889 0.10869 0.09427 0.08811 0.09514 0.08557 C 0.10573 -0.00185 0.08316 -0.09089 0.06423 -0.17276 C 0.04496 -0.25671 0.01996 -0.33696 -0.00486 -0.41767 C -0.01389 -0.44727 -0.02934 -0.50532 -0.03698 -0.52475 C -0.05226 -0.5636 -0.06754 -0.60222 -0.08264 -0.64131 C -0.09219 -0.66582 -0.10156 -0.6908 -0.11111 -0.71531 C -0.12622 -0.75393 -0.14427 -0.79001 -0.16302 -0.82563 C -0.20139 -0.89801 -0.23299 -0.94218 -0.3 -0.96045 C -0.34236 -0.95629 -0.3257 -0.96022 -0.37153 -0.94403 C -0.38472 -0.93941 -0.39531 -0.92785 -0.40608 -0.91767 C -0.41163 -0.91235 -0.41823 -0.90865 -0.42344 -0.90287 C -0.4533 -0.87003 -0.4658 -0.80342 -0.47153 -0.75671 C -0.47257 -0.7204 -0.4717 -0.69057 -0.4691 -0.65472 C -0.46788 -0.63876 -0.46354 -0.62396 -0.46042 -0.6087 C -0.45087 -0.56267 -0.43906 -0.5185 -0.42709 -0.47364 C -0.38351 -0.31082 -0.34636 -0.12257 -0.24931 -1.16559E-006 C -0.20834 0.0518 -0.15851 0.08279 -0.1099 0.12003 C -0.08733 0.13737 -0.0632 0.15356 -0.03941 0.16767 C -0.03316 0.17137 -0.00677 0.19033 0.00503 0.19403 C -0.00087 0.18293 -0.01007 0.17391 -0.01719 0.16443 C -0.02761 0.15079 -0.03733 0.1346 -0.04931 0.12326 C -0.05191 0.09875 -0.05469 0.07377 -0.05799 0.04926 C -0.05903 0.04163 -0.06042 0.034 -0.06163 0.02636 C -0.06216 0.02359 -0.06302 0.01804 -0.06302 0.01804 C -0.06302 0.01804 -0.06163 0.02706 -0.06042 0.03122 C -0.05556 0.0488 -0.06042 0.02891 -0.05556 0.05273 C -0.05452 0.05805 -0.05295 0.05758 -0.05556 0.05758 E">
                                      <p:cBhvr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culling_team01"/>
          <p:cNvPicPr/>
          <p:nvPr/>
        </p:nvPicPr>
        <p:blipFill>
          <a:blip r:embed="rId1"/>
          <a:stretch/>
        </p:blipFill>
        <p:spPr>
          <a:xfrm>
            <a:off x="685800" y="762120"/>
            <a:ext cx="4762440" cy="31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elephant1"/>
          <p:cNvPicPr/>
          <p:nvPr/>
        </p:nvPicPr>
        <p:blipFill>
          <a:blip r:embed="rId2"/>
          <a:stretch/>
        </p:blipFill>
        <p:spPr>
          <a:xfrm>
            <a:off x="1143000" y="3581280"/>
            <a:ext cx="5400720" cy="3038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u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562720" y="1905120"/>
            <a:ext cx="35812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move rejected members or parts from (a her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picked out from others, esp. something rejected because of inferio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Cu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 on the 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on in animal nu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to stop poaching and ivory-smugg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up to two tons of meat that can feed a hungry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game hunting has been trying to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elephant_on_back_of_trailer"/>
          <p:cNvPicPr/>
          <p:nvPr/>
        </p:nvPicPr>
        <p:blipFill>
          <a:blip r:embed="rId1"/>
          <a:stretch/>
        </p:blipFill>
        <p:spPr>
          <a:xfrm>
            <a:off x="190440" y="1795320"/>
            <a:ext cx="453384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cull elephant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to stop poaching and ivory-smugg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up to two tons of meat that can feed a hungry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game hunting has been trying to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in Nat'l parks expanding too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Elephant Picture Image"/>
          <p:cNvPicPr/>
          <p:nvPr/>
        </p:nvPicPr>
        <p:blipFill>
          <a:blip r:embed="rId1"/>
          <a:stretch/>
        </p:blipFill>
        <p:spPr>
          <a:xfrm>
            <a:off x="4267080" y="2514600"/>
            <a:ext cx="4876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african-elephant2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bcPhonicsOne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phant-friend or fo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eat about 400 to 500 pounds of grasses, seeds, roots, leaves, fruits, tender shoots, and bark….PER DA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drink 200 liters of water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groups of elephants up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woodland into grassland-kill ancient baobab trees which is home to many different species of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se rhinos off their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s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illing African Eleph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750480" y="3505320"/>
            <a:ext cx="32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ull or Be Cu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ling provides monetary options for governments by reviving the ivory trade betwee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1"/>
          <a:stretch/>
        </p:blipFill>
        <p:spPr>
          <a:xfrm>
            <a:off x="1231920" y="2871720"/>
            <a:ext cx="2035080" cy="112716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4" descr=""/>
          <p:cNvPicPr/>
          <p:nvPr/>
        </p:nvPicPr>
        <p:blipFill>
          <a:blip r:embed="rId2"/>
          <a:stretch/>
        </p:blipFill>
        <p:spPr>
          <a:xfrm>
            <a:off x="5419800" y="2859120"/>
            <a:ext cx="2151000" cy="11332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1066680" y="4191120"/>
            <a:ext cx="243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money for gover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s elephant po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5715000" y="4267080"/>
            <a:ext cx="155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our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ac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lling of many eleph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5334120"/>
            <a:ext cx="7162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enske, Nicholas J. "The great elephant debate.(CURRENTS)." 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19.5 (Sept-Oct 2008): 15(1). 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udent Resource Center - G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 Gale. Stroudsburg High School. 25 Feb. 2009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tp://find.galegroup.com/ips/start.do?prodId=IPS&gt;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895480" y="2209680"/>
            <a:ext cx="373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bbit Culling to Start on Thursday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rica News Service (Nov 6, 2008): p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s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BC New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lensk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Nicholas J. "The great elephant debate.(CURRENTS)." 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19.5 (Sept-Oct 2008): 15(1). 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udent Resource Center - Gol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 Gale. Stroudsburg High School. 25 Feb. 2009 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http:/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WordArt 7"/>
          <p:cNvSpPr txBox="1"/>
          <p:nvPr/>
        </p:nvSpPr>
        <p:spPr>
          <a:xfrm>
            <a:off x="3886200" y="533520"/>
            <a:ext cx="4114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inks....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066320" y="2895480"/>
            <a:ext cx="34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phant explosion triggers cull row By S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10:32Z</dcterms:created>
  <dc:creator>sasd</dc:creator>
  <dc:description/>
  <dc:language>en-US</dc:language>
  <cp:lastModifiedBy>miss kelly</cp:lastModifiedBy>
  <dcterms:modified xsi:type="dcterms:W3CDTF">2009-03-04T02:25:43Z</dcterms:modified>
  <cp:revision>16</cp:revision>
  <dc:subject/>
  <dc:title>Links…..</dc:title>
</cp:coreProperties>
</file>